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171-D7C5-4591-9D22-F59812F1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1E2-1B03-43B3-A3C8-8EF4E83B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875-D24C-41D1-9956-2178AC78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E2F-A572-4CDC-85D7-0100B631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29F-3D6B-4055-8351-6A6A0E0E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35D-3F38-432A-9424-7A9B10A8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215-06B8-4155-9596-96AAC0E4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857-CD41-4BE2-993F-72793F7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466-C690-4364-959B-978CA865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77B-6EAB-4EEE-995D-88274067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16B-FF9E-4D91-B02A-B3FCC96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21F-DB44-4AF9-AA60-6F67F8BF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7D08-CD7A-4E5B-BB97-4931A95F6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ssil Fold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388584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websites below to read about different foss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questions 1-4 for each type of fossil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cmp.berkeley.edu/paleo/fossils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zoomschool.com/subjects/dinosaurs/dinofossils/Fossiltyp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191120" y="3808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entire stack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ree half sheets on top of your stack and three behind your st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 Staple together down the left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" y="1905120"/>
            <a:ext cx="3505320" cy="464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8120" y="2666880"/>
            <a:ext cx="9144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048120" y="4724280"/>
            <a:ext cx="91440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048120" y="5410080"/>
            <a:ext cx="91440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048120" y="33526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048120" y="4038480"/>
            <a:ext cx="9144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048120" y="266688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3048120" y="6019920"/>
            <a:ext cx="914400" cy="533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Your Fol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666880" y="1523880"/>
            <a:ext cx="381024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TO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pen to the first page – write the following informatio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362320" y="1447920"/>
            <a:ext cx="4267080" cy="510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LEONT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udy of past lif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ontologists 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s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past life 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served remains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 a living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parts of an organism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(bone, tee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parts decay or get ea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scle, skin, fu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sils are found in sedimentary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igneous or metamorphic r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 to the second p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362320" y="1371600"/>
            <a:ext cx="449568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fossils 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rganism 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Organism gets bu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ediments harden/preserve cr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an fossils tell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life has changed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s of timeline are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because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sils were destroyed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 haven’t been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es to past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 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al Plants = warm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ne Fossils on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ient Coas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 to the second to last p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209680" y="1600200"/>
            <a:ext cx="4800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index fossi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sils of a creature that exist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period of time, the fossi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in a limited number of rock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n index fossil, a fossil m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found in rock layers all over the wor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an they tell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determine the age of rock layer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low a fossil, we know the time spa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he organisms l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most fam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x fossil?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LOB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lobites -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ha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inct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st relative is a horseshoe cr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m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find this fossil we know the rock layer is _____ million years o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hacops-speculator-1600"/>
          <p:cNvPicPr/>
          <p:nvPr/>
        </p:nvPicPr>
        <p:blipFill>
          <a:blip r:embed="rId1"/>
          <a:stretch/>
        </p:blipFill>
        <p:spPr>
          <a:xfrm>
            <a:off x="4648320" y="32004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tri_phacops_mor_ping"/>
          <p:cNvPicPr/>
          <p:nvPr/>
        </p:nvPicPr>
        <p:blipFill>
          <a:blip r:embed="rId2"/>
          <a:stretch/>
        </p:blipFill>
        <p:spPr>
          <a:xfrm>
            <a:off x="5591160" y="457200"/>
            <a:ext cx="3552840" cy="26258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7"/>
          <p:cNvSpPr/>
          <p:nvPr/>
        </p:nvSpPr>
        <p:spPr>
          <a:xfrm>
            <a:off x="-24120" y="76320"/>
            <a:ext cx="92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lace this information on the inside of the Back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o ahead and setup your foldable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rite each type of fossil on one ta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er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 Pit/Asp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s &amp; 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rolites/Gastroliths/Dr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swer the following for each fossil type.  Write the information on the front of each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(n) __________ foss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we learn from a ______ foss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is fossil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xamples of this foss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couple of pictures of ______foss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Era did this animal(now fossilized)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3716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bee in amber"/>
          <p:cNvPicPr/>
          <p:nvPr/>
        </p:nvPicPr>
        <p:blipFill>
          <a:blip r:embed="rId1"/>
          <a:stretch/>
        </p:blipFill>
        <p:spPr>
          <a:xfrm>
            <a:off x="0" y="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Weevil in Dominican Fossil Amber"/>
          <p:cNvPicPr/>
          <p:nvPr/>
        </p:nvPicPr>
        <p:blipFill>
          <a:blip r:embed="rId2"/>
          <a:stretch/>
        </p:blipFill>
        <p:spPr>
          <a:xfrm>
            <a:off x="4724280" y="1576440"/>
            <a:ext cx="4419720" cy="5281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praying-mantis-a-1024"/>
          <p:cNvPicPr/>
          <p:nvPr/>
        </p:nvPicPr>
        <p:blipFill>
          <a:blip r:embed="rId3"/>
          <a:stretch/>
        </p:blipFill>
        <p:spPr>
          <a:xfrm>
            <a:off x="5638680" y="0"/>
            <a:ext cx="35053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zen Whol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frozen_baby_mammoth"/>
          <p:cNvPicPr/>
          <p:nvPr/>
        </p:nvPicPr>
        <p:blipFill>
          <a:blip r:embed="rId1"/>
          <a:stretch/>
        </p:blipFill>
        <p:spPr>
          <a:xfrm>
            <a:off x="0" y="2400480"/>
            <a:ext cx="3543480" cy="4457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encinoman1992429_f1"/>
          <p:cNvPicPr/>
          <p:nvPr/>
        </p:nvPicPr>
        <p:blipFill>
          <a:blip r:embed="rId2"/>
          <a:stretch/>
        </p:blipFill>
        <p:spPr>
          <a:xfrm>
            <a:off x="5524560" y="1724040"/>
            <a:ext cx="36194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Your Foldab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You will need 13 full sheets of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 6 pieces of paper in half – 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all six in half along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3200400"/>
            <a:ext cx="29718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4800" y="4724280"/>
            <a:ext cx="2666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533520" y="4800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0640" y="3236760"/>
            <a:ext cx="24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 along dotted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all six along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447920" y="6172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4"/>
          <p:cNvCxnSpPr/>
          <p:nvPr/>
        </p:nvCxnSpPr>
        <p:spPr>
          <a:xfrm>
            <a:off x="380520" y="3504960"/>
            <a:ext cx="1080" cy="2896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1" name="TextBox 15"/>
          <p:cNvSpPr/>
          <p:nvPr/>
        </p:nvSpPr>
        <p:spPr>
          <a:xfrm rot="16200000">
            <a:off x="-44280" y="4692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17"/>
          <p:cNvCxnSpPr/>
          <p:nvPr/>
        </p:nvCxnSpPr>
        <p:spPr>
          <a:xfrm>
            <a:off x="609120" y="6629040"/>
            <a:ext cx="2591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1600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Tar 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Pi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a-brea-tar-pits"/>
          <p:cNvPicPr/>
          <p:nvPr/>
        </p:nvPicPr>
        <p:blipFill>
          <a:blip r:embed="rId1"/>
          <a:stretch/>
        </p:blipFill>
        <p:spPr>
          <a:xfrm>
            <a:off x="0" y="3408480"/>
            <a:ext cx="5038560" cy="344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84914373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84915469"/>
          <p:cNvPicPr/>
          <p:nvPr/>
        </p:nvPicPr>
        <p:blipFill>
          <a:blip r:embed="rId3"/>
          <a:stretch/>
        </p:blipFill>
        <p:spPr>
          <a:xfrm>
            <a:off x="2590920" y="0"/>
            <a:ext cx="24066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reation-labrea_tar_pits_pit_91"/>
          <p:cNvPicPr/>
          <p:nvPr/>
        </p:nvPicPr>
        <p:blipFill>
          <a:blip r:embed="rId1"/>
          <a:stretch/>
        </p:blipFill>
        <p:spPr>
          <a:xfrm>
            <a:off x="0" y="3417840"/>
            <a:ext cx="5638680" cy="344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3216062959_3f7045e2cf_o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45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workgpit"/>
          <p:cNvPicPr/>
          <p:nvPr/>
        </p:nvPicPr>
        <p:blipFill>
          <a:blip r:embed="rId3"/>
          <a:stretch/>
        </p:blipFill>
        <p:spPr>
          <a:xfrm>
            <a:off x="0" y="0"/>
            <a:ext cx="5562720" cy="3754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6097320" y="4038480"/>
            <a:ext cx="257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RTY JOB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es 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r P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04920" y="761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ol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trilobite 2"/>
          <p:cNvPicPr/>
          <p:nvPr/>
        </p:nvPicPr>
        <p:blipFill>
          <a:blip r:embed="rId1"/>
          <a:stretch/>
        </p:blipFill>
        <p:spPr>
          <a:xfrm>
            <a:off x="0" y="2906640"/>
            <a:ext cx="5181480" cy="3951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astMold560"/>
          <p:cNvPicPr/>
          <p:nvPr/>
        </p:nvPicPr>
        <p:blipFill>
          <a:blip r:embed="rId2"/>
          <a:stretch/>
        </p:blipFill>
        <p:spPr>
          <a:xfrm>
            <a:off x="3809880" y="3057480"/>
            <a:ext cx="5334120" cy="380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mmonite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305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6ammonite-laguna"/>
          <p:cNvPicPr/>
          <p:nvPr/>
        </p:nvPicPr>
        <p:blipFill>
          <a:blip r:embed="rId4"/>
          <a:stretch/>
        </p:blipFill>
        <p:spPr>
          <a:xfrm>
            <a:off x="2209680" y="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Impress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archaeopteryx"/>
          <p:cNvPicPr/>
          <p:nvPr/>
        </p:nvPicPr>
        <p:blipFill>
          <a:blip r:embed="rId1"/>
          <a:stretch/>
        </p:blipFill>
        <p:spPr>
          <a:xfrm>
            <a:off x="0" y="3814920"/>
            <a:ext cx="5867280" cy="304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beechleaf carbon film"/>
          <p:cNvPicPr/>
          <p:nvPr/>
        </p:nvPicPr>
        <p:blipFill>
          <a:blip r:embed="rId2"/>
          <a:stretch/>
        </p:blipFill>
        <p:spPr>
          <a:xfrm>
            <a:off x="0" y="0"/>
            <a:ext cx="2960640" cy="3809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make-fossil-model-200X200"/>
          <p:cNvPicPr/>
          <p:nvPr/>
        </p:nvPicPr>
        <p:blipFill>
          <a:blip r:embed="rId3"/>
          <a:stretch/>
        </p:blipFill>
        <p:spPr>
          <a:xfrm>
            <a:off x="304812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s"/>
          <p:cNvPicPr/>
          <p:nvPr/>
        </p:nvPicPr>
        <p:blipFill>
          <a:blip r:embed="rId4"/>
          <a:stretch/>
        </p:blipFill>
        <p:spPr>
          <a:xfrm>
            <a:off x="5867280" y="3886200"/>
            <a:ext cx="3124440" cy="2081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VLC030_Imprint_fossil"/>
          <p:cNvPicPr/>
          <p:nvPr/>
        </p:nvPicPr>
        <p:blipFill>
          <a:blip r:embed="rId5"/>
          <a:stretch/>
        </p:blipFill>
        <p:spPr>
          <a:xfrm>
            <a:off x="7010280" y="304920"/>
            <a:ext cx="190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rified (Permineraliz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petrifiedlogs"/>
          <p:cNvPicPr/>
          <p:nvPr/>
        </p:nvPicPr>
        <p:blipFill>
          <a:blip r:embed="rId1"/>
          <a:stretch/>
        </p:blipFill>
        <p:spPr>
          <a:xfrm>
            <a:off x="0" y="3235320"/>
            <a:ext cx="5181480" cy="362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M163-06"/>
          <p:cNvPicPr/>
          <p:nvPr/>
        </p:nvPicPr>
        <p:blipFill>
          <a:blip r:embed="rId2"/>
          <a:stretch/>
        </p:blipFill>
        <p:spPr>
          <a:xfrm>
            <a:off x="4724280" y="3200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PetrifiedWood"/>
          <p:cNvPicPr/>
          <p:nvPr/>
        </p:nvPicPr>
        <p:blipFill>
          <a:blip r:embed="rId3"/>
          <a:stretch/>
        </p:blipFill>
        <p:spPr>
          <a:xfrm>
            <a:off x="2971800" y="914400"/>
            <a:ext cx="3448080" cy="25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sharkteeth"/>
          <p:cNvPicPr/>
          <p:nvPr/>
        </p:nvPicPr>
        <p:blipFill>
          <a:blip r:embed="rId4"/>
          <a:stretch/>
        </p:blipFill>
        <p:spPr>
          <a:xfrm>
            <a:off x="6000840" y="914400"/>
            <a:ext cx="314316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fossil-bone"/>
          <p:cNvPicPr/>
          <p:nvPr/>
        </p:nvPicPr>
        <p:blipFill>
          <a:blip r:embed="rId5"/>
          <a:stretch/>
        </p:blipFill>
        <p:spPr>
          <a:xfrm>
            <a:off x="0" y="838080"/>
            <a:ext cx="30002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L02_fossil_hpl922"/>
          <p:cNvPicPr/>
          <p:nvPr/>
        </p:nvPicPr>
        <p:blipFill>
          <a:blip r:embed="rId1"/>
          <a:stretch/>
        </p:blipFill>
        <p:spPr>
          <a:xfrm>
            <a:off x="0" y="3619440"/>
            <a:ext cx="5181480" cy="323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Trace_fossil"/>
          <p:cNvPicPr/>
          <p:nvPr/>
        </p:nvPicPr>
        <p:blipFill>
          <a:blip r:embed="rId2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Trace%20fossils%20on%20sandstone%20bedding%20plane"/>
          <p:cNvPicPr/>
          <p:nvPr/>
        </p:nvPicPr>
        <p:blipFill>
          <a:blip r:embed="rId3"/>
          <a:stretch/>
        </p:blipFill>
        <p:spPr>
          <a:xfrm>
            <a:off x="4915080" y="1219320"/>
            <a:ext cx="4228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rolites/Gastroli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6fssl-gastroliths-mules1"/>
          <p:cNvPicPr/>
          <p:nvPr/>
        </p:nvPicPr>
        <p:blipFill>
          <a:blip r:embed="rId1"/>
          <a:stretch/>
        </p:blipFill>
        <p:spPr>
          <a:xfrm>
            <a:off x="5105520" y="1143000"/>
            <a:ext cx="3149640" cy="5181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oprolite"/>
          <p:cNvPicPr/>
          <p:nvPr/>
        </p:nvPicPr>
        <p:blipFill>
          <a:blip r:embed="rId2"/>
          <a:stretch/>
        </p:blipFill>
        <p:spPr>
          <a:xfrm>
            <a:off x="304920" y="914400"/>
            <a:ext cx="3752640" cy="317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coprolite"/>
          <p:cNvPicPr/>
          <p:nvPr/>
        </p:nvPicPr>
        <p:blipFill>
          <a:blip r:embed="rId3"/>
          <a:stretch/>
        </p:blipFill>
        <p:spPr>
          <a:xfrm>
            <a:off x="304920" y="4038480"/>
            <a:ext cx="3809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/Desiccated 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188181_f260"/>
          <p:cNvPicPr/>
          <p:nvPr/>
        </p:nvPicPr>
        <p:blipFill>
          <a:blip r:embed="rId1"/>
          <a:srcRect l="55386" t="0" r="0" b="0"/>
          <a:stretch/>
        </p:blipFill>
        <p:spPr>
          <a:xfrm>
            <a:off x="0" y="0"/>
            <a:ext cx="2367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Mummification"/>
          <p:cNvPicPr/>
          <p:nvPr/>
        </p:nvPicPr>
        <p:blipFill>
          <a:blip r:embed="rId2"/>
          <a:srcRect l="6172" t="8213" r="10286" b="8213"/>
          <a:stretch/>
        </p:blipFill>
        <p:spPr>
          <a:xfrm>
            <a:off x="4624560" y="3459240"/>
            <a:ext cx="4519440" cy="3398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sharkmummy"/>
          <p:cNvPicPr/>
          <p:nvPr/>
        </p:nvPicPr>
        <p:blipFill>
          <a:blip r:embed="rId3"/>
          <a:stretch/>
        </p:blipFill>
        <p:spPr>
          <a:xfrm>
            <a:off x="5029200" y="1219320"/>
            <a:ext cx="3657600" cy="24508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7546320" y="15238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urumchi"/>
          <p:cNvPicPr/>
          <p:nvPr/>
        </p:nvPicPr>
        <p:blipFill>
          <a:blip r:embed="rId4"/>
          <a:stretch/>
        </p:blipFill>
        <p:spPr>
          <a:xfrm>
            <a:off x="2209680" y="1676520"/>
            <a:ext cx="2838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f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 it three times hamburger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33520" y="3276720"/>
            <a:ext cx="2819160" cy="32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886200" y="4800600"/>
            <a:ext cx="2666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086600" y="4800600"/>
            <a:ext cx="12952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33520" y="48006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5181480" y="4800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08660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886200" y="2514600"/>
            <a:ext cx="525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ave the paper folded i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est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Fold once more hot dog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half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 it twice hot do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- You end up with 32 bo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5800" y="2666880"/>
            <a:ext cx="32767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2000" y="2666880"/>
            <a:ext cx="16765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228600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5410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85800" y="1981080"/>
            <a:ext cx="79246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685800" y="29718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85800" y="5181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16765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26668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35812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457200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55627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65530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76201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85800" y="2209680"/>
            <a:ext cx="79246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685800" y="3200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685800" y="42670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685800" y="54100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167652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266688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358128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556272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55308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7620120" y="22096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sheet that you folded (32 squares) on top of one half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e bottom right hand square out of both sh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is sheet 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7620120" y="5410080"/>
            <a:ext cx="99036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85800" y="1981080"/>
            <a:ext cx="79246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85800" y="29718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685800" y="5181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6765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26668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35812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55627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65530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76201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peat this process with another one of the half sheets except cut the first and second squar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ace this sheet on top of the fir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7620120" y="5181480"/>
            <a:ext cx="99036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553080" y="5181480"/>
            <a:ext cx="10670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5800" y="1981080"/>
            <a:ext cx="79246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685800" y="29718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685800" y="5181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16765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6668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5812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57200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55627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655308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7620120" y="19810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.  Repeat 5 times cutting one more square each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.  Place each sheet on to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ou will end up with 7 pieces of paper with tab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7620120" y="5181480"/>
            <a:ext cx="99036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6553080" y="5181480"/>
            <a:ext cx="10670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ke the top sheet and set it to the sid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ace the next sheet on top of 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heet that was on the top should now be on the bottom and vice vers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57200" y="1905120"/>
            <a:ext cx="3505320" cy="464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048120" y="1905120"/>
            <a:ext cx="91440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48120" y="4724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048120" y="5410080"/>
            <a:ext cx="9144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048120" y="3352680"/>
            <a:ext cx="91440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048120" y="4038480"/>
            <a:ext cx="9144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3048120" y="19051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048120" y="2666880"/>
            <a:ext cx="91440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438280" y="64008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350532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3505320" y="5105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505320" y="4343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350532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3505320" y="29718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42Z</dcterms:created>
  <dc:creator>student</dc:creator>
  <dc:description/>
  <dc:language>en-US</dc:language>
  <cp:lastModifiedBy>LCS Staff</cp:lastModifiedBy>
  <dcterms:modified xsi:type="dcterms:W3CDTF">2013-10-21T16:30:04Z</dcterms:modified>
  <cp:revision>23</cp:revision>
  <dc:subject/>
  <dc:title>Fossil S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